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5B5A-41A9-4295-BE0A-D615D83EBBA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9466-7A5B-4560-B27F-293A137FA383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A886-3523-4A54-8063-3B280887C23F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040C-9585-4A7D-82FD-78B6745EBE4C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50FB-13AE-42C0-88E6-3232A4036727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1BEB-6BED-43DD-8C80-922D52089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E92A-51B0-4EFA-A720-902CDF3C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3E98-E906-4E06-9E74-D9B72B3BE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1BBF-8196-4F95-867D-6767F8240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B1EC-B598-481A-9002-468B95C0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ED1E-A0EB-4C67-AA11-C65B8B82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8B32-7EF0-49C9-80F4-0E0061A3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79CD-0155-41C7-AC20-E9C0E06B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A518-7E83-408B-8021-D3C6467A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D79A-9F8A-4F22-96DC-3094CF27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0391-41A9-4AF2-98B1-51E26F4D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1613-5795-41E7-BE1D-B50E8EE2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1F8C-DFED-4978-92EC-67220962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27DA-358A-4097-8D2A-A0596B68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DD1C-A640-44EB-A385-BC7EC761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FA1A-2D75-41B9-80E1-47AD6919D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A9F6-73B0-41ED-B526-00A741E96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45FD-7C15-46E6-8D41-03DBB2FE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F476-FBD5-4E85-8F60-E22443A5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9F3F-29F4-4950-8235-4A0BF9E8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9D23-B129-4EB5-B919-D37F546D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4317-D0F7-47FE-BE0F-99290270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52A2-C6C7-47A3-8921-8193DEE2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3C0B-DEBF-4DD7-BA83-FCBCFF22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47E6-8D23-4E58-B9D3-ACF031792A0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D0FE-2144-4C63-9237-1762EF800A3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2"/>
          <p:cNvSpPr/>
          <p:nvPr/>
        </p:nvSpPr>
        <p:spPr>
          <a:xfrm>
            <a:off x="0" y="652320"/>
            <a:ext cx="455292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2664000" y="333360"/>
            <a:ext cx="4642560" cy="4437000"/>
            <a:chOff x="2664000" y="333360"/>
            <a:chExt cx="4642560" cy="4437000"/>
          </a:xfrm>
        </p:grpSpPr>
        <p:grpSp>
          <p:nvGrpSpPr>
            <p:cNvPr id="155" name="Group 4"/>
            <p:cNvGrpSpPr/>
            <p:nvPr/>
          </p:nvGrpSpPr>
          <p:grpSpPr>
            <a:xfrm>
              <a:off x="2664000" y="333360"/>
              <a:ext cx="4642560" cy="4437000"/>
              <a:chOff x="2664000" y="333360"/>
              <a:chExt cx="4642560" cy="4437000"/>
            </a:xfrm>
          </p:grpSpPr>
          <p:pic>
            <p:nvPicPr>
              <p:cNvPr id="156" name="Picture 5" descr="copertina"/>
              <p:cNvPicPr/>
              <p:nvPr/>
            </p:nvPicPr>
            <p:blipFill>
              <a:blip r:embed="rId1"/>
              <a:stretch/>
            </p:blipFill>
            <p:spPr>
              <a:xfrm>
                <a:off x="2664000" y="333360"/>
                <a:ext cx="4642560" cy="443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WordArt 6"/>
              <p:cNvSpPr txBox="1"/>
              <p:nvPr/>
            </p:nvSpPr>
            <p:spPr>
              <a:xfrm>
                <a:off x="3308400" y="948960"/>
                <a:ext cx="3303720" cy="315072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4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cb3a3a"/>
                    </a:solidFill>
                    <a:latin typeface="Verdana"/>
                  </a:rPr>
                  <a:t>Matematica &amp; Realtà</a:t>
                </a:r>
                <a:endPara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b3a3a"/>
                  </a:solidFill>
                  <a:latin typeface="Verdana"/>
                  <a:ea typeface="Verdana"/>
                </a:endParaRPr>
              </a:p>
            </p:txBody>
          </p:sp>
        </p:grpSp>
        <p:pic>
          <p:nvPicPr>
            <p:cNvPr id="158" name="Picture 7" descr="logo_mr"/>
            <p:cNvPicPr/>
            <p:nvPr/>
          </p:nvPicPr>
          <p:blipFill>
            <a:blip r:embed="rId2"/>
            <a:stretch/>
          </p:blipFill>
          <p:spPr>
            <a:xfrm>
              <a:off x="5589360" y="2639880"/>
              <a:ext cx="1038960" cy="7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WordArt 8"/>
            <p:cNvSpPr txBox="1"/>
            <p:nvPr/>
          </p:nvSpPr>
          <p:spPr>
            <a:xfrm>
              <a:off x="2901960" y="4546440"/>
              <a:ext cx="1029240" cy="12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1440">
                    <a:solidFill>
                      <a:srgbClr val="000000"/>
                    </a:solidFill>
                    <a:miter/>
                  </a:ln>
                  <a:solidFill>
                    <a:srgbClr val="cb3a3a"/>
                  </a:solidFill>
                  <a:latin typeface="Times New Roman"/>
                </a:rPr>
                <a:t>Vignetta di Luigi Aluffi</a:t>
              </a:r>
              <a:endParaRPr b="0" lang="en-US" sz="800" spc="1" strike="noStrike">
                <a:ln w="1440">
                  <a:solidFill>
                    <a:srgbClr val="000000"/>
                  </a:solidFill>
                  <a:miter/>
                </a:ln>
                <a:solidFill>
                  <a:srgbClr val="cb3a3a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60" name="Rectangle 9"/>
          <p:cNvSpPr/>
          <p:nvPr/>
        </p:nvSpPr>
        <p:spPr>
          <a:xfrm>
            <a:off x="36360" y="65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0" y="620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1547640" y="4797360"/>
            <a:ext cx="6948720" cy="947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boratori di sperimentazione didattic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ara di modellizzazione matema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232000" y="5877000"/>
            <a:ext cx="54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Primo Brandi – Anna Salvador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1763640" y="6237360"/>
            <a:ext cx="632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Dipartimento di Matematica e Informatica, Università di Peru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2"/>
          <p:cNvSpPr/>
          <p:nvPr/>
        </p:nvSpPr>
        <p:spPr>
          <a:xfrm>
            <a:off x="0" y="652320"/>
            <a:ext cx="455292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36360" y="65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0" y="620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1368360" y="441360"/>
            <a:ext cx="70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tematica&amp;Realt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1368360" y="1376280"/>
            <a:ext cx="7021440" cy="1068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ra di                           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modellizzazion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atema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Picture 7" descr="logo_mr"/>
          <p:cNvPicPr/>
          <p:nvPr/>
        </p:nvPicPr>
        <p:blipFill>
          <a:blip r:embed="rId1"/>
          <a:stretch/>
        </p:blipFill>
        <p:spPr>
          <a:xfrm>
            <a:off x="1332000" y="225360"/>
            <a:ext cx="1358640" cy="99072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8"/>
          <p:cNvSpPr/>
          <p:nvPr/>
        </p:nvSpPr>
        <p:spPr>
          <a:xfrm>
            <a:off x="1368360" y="317664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per Junio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V anno SP – I anno SS I grado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1368360" y="591336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vanzata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- IV e V anno SS II grad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1368360" y="386064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unio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II e III anno SS I gr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1368360" y="450864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as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– I biennio SS II grad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1368360" y="522936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termedia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– II biennio SS II grad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1368360" y="256536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zioni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AutoShape 2"/>
          <p:cNvSpPr/>
          <p:nvPr/>
        </p:nvSpPr>
        <p:spPr>
          <a:xfrm>
            <a:off x="0" y="652320"/>
            <a:ext cx="455292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6360" y="65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0" y="620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368360" y="441360"/>
            <a:ext cx="70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tematica&amp;Realt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368360" y="1376280"/>
            <a:ext cx="7021440" cy="1068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ra di                           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modellizzazion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atema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Picture 7" descr="logo_mr"/>
          <p:cNvPicPr/>
          <p:nvPr/>
        </p:nvPicPr>
        <p:blipFill>
          <a:blip r:embed="rId1"/>
          <a:stretch/>
        </p:blipFill>
        <p:spPr>
          <a:xfrm>
            <a:off x="1332000" y="225360"/>
            <a:ext cx="1358640" cy="99072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8"/>
          <p:cNvSpPr/>
          <p:nvPr/>
        </p:nvSpPr>
        <p:spPr>
          <a:xfrm>
            <a:off x="1368360" y="317664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per Junio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V anno Scuola primaria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1368360" y="591336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vanzata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- IV e V anno SS II grad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1368360" y="386064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unio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II e III anno SS I gr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1368360" y="450864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as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– biennio SS II grad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12"/>
          <p:cNvSpPr/>
          <p:nvPr/>
        </p:nvSpPr>
        <p:spPr>
          <a:xfrm>
            <a:off x="1368360" y="522936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termedia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– III e IV anno SS II gr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13"/>
          <p:cNvSpPr/>
          <p:nvPr/>
        </p:nvSpPr>
        <p:spPr>
          <a:xfrm>
            <a:off x="1368360" y="256536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AutoShape 15"/>
          <p:cNvSpPr/>
          <p:nvPr/>
        </p:nvSpPr>
        <p:spPr>
          <a:xfrm>
            <a:off x="5940360" y="256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3"/>
          <p:cNvSpPr/>
          <p:nvPr/>
        </p:nvSpPr>
        <p:spPr>
          <a:xfrm>
            <a:off x="36360" y="65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0" y="620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1368360" y="441360"/>
            <a:ext cx="70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tematica&amp;Realt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1368360" y="1376280"/>
            <a:ext cx="7021440" cy="1068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II gara di                           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modellizzazion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atema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Picture 7" descr="logo_mr"/>
          <p:cNvPicPr/>
          <p:nvPr/>
        </p:nvPicPr>
        <p:blipFill>
          <a:blip r:embed="rId1"/>
          <a:stretch/>
        </p:blipFill>
        <p:spPr>
          <a:xfrm>
            <a:off x="1332000" y="225360"/>
            <a:ext cx="1358640" cy="99072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13"/>
          <p:cNvSpPr/>
          <p:nvPr/>
        </p:nvSpPr>
        <p:spPr>
          <a:xfrm>
            <a:off x="1368360" y="256536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 partecipar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1116000" y="3284640"/>
            <a:ext cx="77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Nomina del Docente Referent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1079640" y="3681360"/>
            <a:ext cx="77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Raccolta nominativi ragazzi e quote iscrizi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1116000" y="4076640"/>
            <a:ext cx="77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Versamento cumulativo quo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1081080" y="4473720"/>
            <a:ext cx="77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Iscrizione ragazzi tramite elenco Exc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3"/>
          <p:cNvSpPr/>
          <p:nvPr/>
        </p:nvSpPr>
        <p:spPr>
          <a:xfrm>
            <a:off x="36360" y="65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0" y="620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1368360" y="441360"/>
            <a:ext cx="70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tematica&amp;Realt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1368360" y="1376280"/>
            <a:ext cx="7021440" cy="1068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II gara di                           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modellizzazion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atema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Picture 7" descr="logo_mr"/>
          <p:cNvPicPr/>
          <p:nvPr/>
        </p:nvPicPr>
        <p:blipFill>
          <a:blip r:embed="rId1"/>
          <a:stretch/>
        </p:blipFill>
        <p:spPr>
          <a:xfrm>
            <a:off x="1332000" y="225360"/>
            <a:ext cx="1358640" cy="99072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13"/>
          <p:cNvSpPr/>
          <p:nvPr/>
        </p:nvSpPr>
        <p:spPr>
          <a:xfrm>
            <a:off x="1368360" y="256536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 premi per ogni catego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3456000" y="3284640"/>
            <a:ext cx="3060720" cy="271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ff"/>
                </a:solidFill>
                <a:latin typeface="Arial"/>
              </a:rPr>
              <a:t>I PREM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ff"/>
                </a:solidFill>
                <a:latin typeface="Arial"/>
              </a:rPr>
              <a:t>Super Junior    250,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ff"/>
                </a:solidFill>
                <a:latin typeface="Arial"/>
              </a:rPr>
              <a:t>Junior               500,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ff"/>
                </a:solidFill>
                <a:latin typeface="Arial"/>
              </a:rPr>
              <a:t>Base                 1.000,00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ff"/>
                </a:solidFill>
                <a:latin typeface="Arial"/>
              </a:rPr>
              <a:t>Intermedia       1.000,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ff"/>
                </a:solidFill>
                <a:latin typeface="Arial"/>
              </a:rPr>
              <a:t>Avanzata         1.000,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"/>
          <p:cNvSpPr/>
          <p:nvPr/>
        </p:nvSpPr>
        <p:spPr>
          <a:xfrm>
            <a:off x="36360" y="65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0" y="620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1368360" y="441360"/>
            <a:ext cx="70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tematica&amp;Realt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1368360" y="1376280"/>
            <a:ext cx="7021440" cy="1068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II gara di                           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modellizzazion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atema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Picture 7" descr="logo_mr"/>
          <p:cNvPicPr/>
          <p:nvPr/>
        </p:nvPicPr>
        <p:blipFill>
          <a:blip r:embed="rId1"/>
          <a:stretch/>
        </p:blipFill>
        <p:spPr>
          <a:xfrm>
            <a:off x="1332000" y="225360"/>
            <a:ext cx="1358640" cy="99072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3"/>
          <p:cNvSpPr/>
          <p:nvPr/>
        </p:nvSpPr>
        <p:spPr>
          <a:xfrm>
            <a:off x="1079640" y="2565360"/>
            <a:ext cx="77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attaforma mood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1079640" y="4653000"/>
            <a:ext cx="7775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sse virtuale per ciascuna sezione di ga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fide di allenamento con correzione differi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1079640" y="3465360"/>
            <a:ext cx="777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l Docente Referente riceverà le credenziali di accesso alla piattaforma moodle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3"/>
          <p:cNvSpPr/>
          <p:nvPr/>
        </p:nvSpPr>
        <p:spPr>
          <a:xfrm>
            <a:off x="36360" y="65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0" y="620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1368360" y="441360"/>
            <a:ext cx="70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tematica&amp;Realt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1368360" y="1376280"/>
            <a:ext cx="7021440" cy="1068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II gara di                           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modellizzazion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atema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Picture 7" descr="logo_mr"/>
          <p:cNvPicPr/>
          <p:nvPr/>
        </p:nvPicPr>
        <p:blipFill>
          <a:blip r:embed="rId1"/>
          <a:stretch/>
        </p:blipFill>
        <p:spPr>
          <a:xfrm>
            <a:off x="1332000" y="225360"/>
            <a:ext cx="1358640" cy="99072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13"/>
          <p:cNvSpPr/>
          <p:nvPr/>
        </p:nvSpPr>
        <p:spPr>
          <a:xfrm>
            <a:off x="1368360" y="256536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caden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1116000" y="310500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ISCRIZIONI 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7 marz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1079640" y="5300640"/>
            <a:ext cx="77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PUBBLICAZIONE elenco provvisorio 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0 marz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1042920" y="587700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PUBBLICAZIONE elenco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efinitiv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0 marz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ttangolo 13"/>
          <p:cNvSpPr/>
          <p:nvPr/>
        </p:nvSpPr>
        <p:spPr>
          <a:xfrm>
            <a:off x="1871640" y="3824280"/>
            <a:ext cx="5724720" cy="1343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ff"/>
                </a:solidFill>
                <a:latin typeface="Arial"/>
              </a:rPr>
              <a:t>Contributo iscrizione 8 eu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ff"/>
                </a:solidFill>
                <a:latin typeface="Arial"/>
              </a:rPr>
              <a:t>10 candidati GRATUI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ff"/>
                </a:solidFill>
                <a:latin typeface="Arial"/>
              </a:rPr>
              <a:t>Sconti per grandi numeri (oltre 5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36360" y="65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0" y="620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1368360" y="441360"/>
            <a:ext cx="70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tematica&amp;Realt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Picture 6" descr="logo_mr"/>
          <p:cNvPicPr/>
          <p:nvPr/>
        </p:nvPicPr>
        <p:blipFill>
          <a:blip r:embed="rId1"/>
          <a:stretch/>
        </p:blipFill>
        <p:spPr>
          <a:xfrm>
            <a:off x="1332000" y="225360"/>
            <a:ext cx="1358640" cy="99072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7"/>
          <p:cNvSpPr/>
          <p:nvPr/>
        </p:nvSpPr>
        <p:spPr>
          <a:xfrm>
            <a:off x="1150920" y="141300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tre attivit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1187280" y="2205000"/>
            <a:ext cx="79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onvegn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- Corso di formazione Docenti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settemb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1224000" y="274464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Laboratori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 sperimentazione didattic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currucolari o extracurruculari) (novembre – marz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258920" y="360828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 final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eliminatoria gara di modellizzazione)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 attestato di meri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marz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1224000" y="443700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ara final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apri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1258920" y="501336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onvegn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Esperienze a confron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aprile)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oncors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er la migliore comunic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3"/>
          <p:cNvSpPr/>
          <p:nvPr/>
        </p:nvSpPr>
        <p:spPr>
          <a:xfrm>
            <a:off x="36360" y="65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0" y="620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1368360" y="441360"/>
            <a:ext cx="70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tematica&amp;Realt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Picture 7" descr="logo_mr"/>
          <p:cNvPicPr/>
          <p:nvPr/>
        </p:nvPicPr>
        <p:blipFill>
          <a:blip r:embed="rId1"/>
          <a:stretch/>
        </p:blipFill>
        <p:spPr>
          <a:xfrm>
            <a:off x="1332000" y="225360"/>
            <a:ext cx="1358640" cy="99072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3"/>
          <p:cNvSpPr/>
          <p:nvPr/>
        </p:nvSpPr>
        <p:spPr>
          <a:xfrm>
            <a:off x="1368360" y="123336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 aderir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13"/>
          <p:cNvSpPr/>
          <p:nvPr/>
        </p:nvSpPr>
        <p:spPr>
          <a:xfrm>
            <a:off x="1150920" y="177336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tivazione di una UNITA’ LOCALE                                                              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con almeno un laboratorio di 17 studen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 Box 13"/>
          <p:cNvSpPr/>
          <p:nvPr/>
        </p:nvSpPr>
        <p:spPr>
          <a:xfrm>
            <a:off x="1150920" y="252900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ocenti e Studenti avranno accesso alla piattaforma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moodle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13"/>
          <p:cNvSpPr/>
          <p:nvPr/>
        </p:nvSpPr>
        <p:spPr>
          <a:xfrm>
            <a:off x="1187280" y="3284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pense didattiche per Docenti e student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1150920" y="425772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ac simile di t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1116000" y="4797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tro materiale didat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Text Box 13"/>
          <p:cNvSpPr/>
          <p:nvPr/>
        </p:nvSpPr>
        <p:spPr>
          <a:xfrm>
            <a:off x="1116000" y="5300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segna compi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Text Box 13"/>
          <p:cNvSpPr/>
          <p:nvPr/>
        </p:nvSpPr>
        <p:spPr>
          <a:xfrm>
            <a:off x="1150920" y="371628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teriale didattico cal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1150920" y="584208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divisione di esperien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2"/>
          <p:cNvSpPr/>
          <p:nvPr/>
        </p:nvSpPr>
        <p:spPr>
          <a:xfrm>
            <a:off x="0" y="652320"/>
            <a:ext cx="455292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36360" y="65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0" y="620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1116000" y="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M&amp;R 2012-201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3995640" y="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6 percorsi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 in continuit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1116000" y="1989000"/>
            <a:ext cx="7777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B –   JUNIOR  II e II secondaria I grad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proporzionalità e linearità nella vita re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1079640" y="3968640"/>
            <a:ext cx="77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C –   INTERMEDIO     I e II biennio secondaria II grado   </a:t>
            </a:r>
            <a:br>
              <a:rPr sz="2000"/>
            </a:b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ntroduzione alla modellizzazione                                          </a:t>
            </a:r>
            <a:br>
              <a:rPr sz="2000"/>
            </a:b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(dai modelli lineari a quelli non lineari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Text Box 12"/>
          <p:cNvSpPr/>
          <p:nvPr/>
        </p:nvSpPr>
        <p:spPr>
          <a:xfrm>
            <a:off x="1116000" y="5084640"/>
            <a:ext cx="7777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D –  AVANZATO secondaria II grado - università           </a:t>
            </a:r>
            <a:br>
              <a:rPr sz="2000"/>
            </a:b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modelli elementari nella vita reale                                         </a:t>
            </a:r>
            <a:br>
              <a:rPr sz="2000"/>
            </a:b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(crescita esponenziale, fenomeni e funzioni periodich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E -  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Calucus in con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11"/>
          <p:cNvSpPr/>
          <p:nvPr/>
        </p:nvSpPr>
        <p:spPr>
          <a:xfrm>
            <a:off x="1116000" y="292428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BS – BASE    seconadaria I grado I biennio sec. II  grado   </a:t>
            </a:r>
            <a:br>
              <a:rPr sz="2000"/>
            </a:b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ntroduzione al linguaggio matematico della realtà       </a:t>
            </a:r>
            <a:br>
              <a:rPr sz="2000"/>
            </a:b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(medie a scuola e nel quotidiano, equazioni diseq. elementari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1150920" y="800280"/>
            <a:ext cx="777708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A –   SUPERJUNIOR  primaria - secondaria I grad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elementi base di matematica della realtà          </a:t>
            </a:r>
            <a:br>
              <a:rPr sz="2000"/>
            </a:b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       (corrispondenze e relazioni, rappr. grafica della realtà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CasellaDiTesto 3"/>
          <p:cNvSpPr/>
          <p:nvPr/>
        </p:nvSpPr>
        <p:spPr>
          <a:xfrm>
            <a:off x="1224000" y="368280"/>
            <a:ext cx="7669080" cy="47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Sezione Base - Conoscen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Progressioni aritmetich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Funzioni lineari, costanti a tratti, poligonali. Funzione “modulo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Zero e segno di una funzione lineare: equazioni e disequazione di I grado 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una incognit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Risoluzione per via grafica e/o algebric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2"/>
          <p:cNvSpPr/>
          <p:nvPr/>
        </p:nvSpPr>
        <p:spPr>
          <a:xfrm>
            <a:off x="0" y="652320"/>
            <a:ext cx="455292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36360" y="65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116000" y="404640"/>
            <a:ext cx="8028000" cy="52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tematica&amp;Realtà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Una proposta concreta di innovazione didattica, frutto di una sperimentazione sul campo di oltre 16 ann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o spirito con cui si rivolge a Docenti e Studenti è quello di un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approccio sperimentale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alla Matematica e propone una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educazione alla modellizzazione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con strumenti elementar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La dinamica della modellizzazione che è lo strumento base dell’indagine scientifica e della produzione tecnologica, diventa motore di innovazione didattica.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CasellaDiTesto 3"/>
          <p:cNvSpPr/>
          <p:nvPr/>
        </p:nvSpPr>
        <p:spPr>
          <a:xfrm>
            <a:off x="1224000" y="368280"/>
            <a:ext cx="7669080" cy="57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  <a:ea typeface="Arial"/>
              </a:rPr>
              <a:t>Sezione Base - Competen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  <a:ea typeface="Arial"/>
              </a:rPr>
              <a:t>In situazioni problematiche individuare relazioni d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  <a:ea typeface="Arial"/>
              </a:rPr>
              <a:t>linearità o non-linearità tra grandezz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  <a:ea typeface="Arial"/>
              </a:rPr>
              <a:t>Impostare e risolvere problemi tratti dall’esperienza quotidiana che si formalizzano con equazioni e disequazioni di I gr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CasellaDiTesto 3"/>
          <p:cNvSpPr/>
          <p:nvPr/>
        </p:nvSpPr>
        <p:spPr>
          <a:xfrm>
            <a:off x="1224000" y="368280"/>
            <a:ext cx="7669080" cy="57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Sezione Intermedia - Conoscen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Funzioni lineari, lineari a tratti, poligonali.  Funzioni quadratiche. Semplici funzioni razionali.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Zeri e segno di una funzion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Equazioni e disequazioni di I e II grad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Interpretazione geometrica dei sistemi lineari a due incogn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Esempi “scelti” di equazioni, disequazioni, sistemi non linear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CasellaDiTesto 3"/>
          <p:cNvSpPr/>
          <p:nvPr/>
        </p:nvSpPr>
        <p:spPr>
          <a:xfrm>
            <a:off x="1224000" y="368280"/>
            <a:ext cx="7669080" cy="63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  <a:ea typeface="Arial"/>
              </a:rPr>
              <a:t>Sezione Intermedia - Competen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Riconoscere e interpretare elementari modelli lineari in contesti di vita re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Impostare e risolvere per via grafica e/o algebrica problemi tratti dall’esperienza quotidiana che si formalizzano con equazioni e disequazioni di I o di II gr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Interpretare il significato di problemi di II grado privi di soluzioni o che ammettono infinite soluzion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AutoShape 2"/>
          <p:cNvSpPr/>
          <p:nvPr/>
        </p:nvSpPr>
        <p:spPr>
          <a:xfrm>
            <a:off x="0" y="652320"/>
            <a:ext cx="455292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36360" y="65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0" y="620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1116000" y="112536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Come contattar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7"/>
          <p:cNvSpPr/>
          <p:nvPr/>
        </p:nvSpPr>
        <p:spPr>
          <a:xfrm>
            <a:off x="1187280" y="2133720"/>
            <a:ext cx="7777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Sito      </a:t>
            </a: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www.matematicaerealta.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1150920" y="288936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E-mail    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mateas@unipg.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1150920" y="346536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Tel    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075 585382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10"/>
          <p:cNvSpPr/>
          <p:nvPr/>
        </p:nvSpPr>
        <p:spPr>
          <a:xfrm>
            <a:off x="1187280" y="404172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Fax  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075 58550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2"/>
          <p:cNvSpPr/>
          <p:nvPr/>
        </p:nvSpPr>
        <p:spPr>
          <a:xfrm>
            <a:off x="0" y="652320"/>
            <a:ext cx="455292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36360" y="65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116000" y="404640"/>
            <a:ext cx="80280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tematica&amp;Realtà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E’ in stretta sintonia c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e indicazioni MIUR sui nuovi curricu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a formazione/certificazione delle competen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a valutazione dell’INVAL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- gli obiettivi dell’indagine OCSE-PI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talia1"/>
          <p:cNvPicPr/>
          <p:nvPr/>
        </p:nvPicPr>
        <p:blipFill>
          <a:blip r:embed="rId1"/>
          <a:stretch/>
        </p:blipFill>
        <p:spPr>
          <a:xfrm>
            <a:off x="2627280" y="115920"/>
            <a:ext cx="5235480" cy="6669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 rot="16200000">
            <a:off x="-952560" y="2760120"/>
            <a:ext cx="480060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TEMATICA &amp; REALTA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2808360" y="620640"/>
            <a:ext cx="2124000" cy="82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ilano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stellanza Desenzano Alzano Lecco Berga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2700360" y="2060640"/>
            <a:ext cx="863640" cy="8233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benga Savona Tori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076720" y="836640"/>
            <a:ext cx="1081080" cy="82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irano Belluno Pado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4356000" y="1628640"/>
            <a:ext cx="1008000" cy="64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rma Lug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5400720" y="1989000"/>
            <a:ext cx="1584360" cy="8233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abriano Pesaro Urbino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Fer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5724360" y="4869000"/>
            <a:ext cx="1872000" cy="549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cri Catanzaro Lamezia Sovera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3527280" y="5300640"/>
            <a:ext cx="1908360" cy="1097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lermo  Giarre    Gela  Enna        Piazza Armerina Caltanisset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1763640" y="3429000"/>
            <a:ext cx="17272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Barcellona (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6659640" y="189000"/>
            <a:ext cx="2160360" cy="22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2011-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cc"/>
                </a:solidFill>
                <a:latin typeface="Arial"/>
              </a:rPr>
              <a:t>87     Laboratori                    56       Scuole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br>
              <a:rPr sz="1600"/>
            </a:br>
            <a:r>
              <a:rPr b="1" lang="it-IT" sz="1600" spc="-1" strike="noStrike">
                <a:solidFill>
                  <a:srgbClr val="0033cc"/>
                </a:solidFill>
                <a:latin typeface="Arial"/>
              </a:rPr>
              <a:t>102     Docenti   </a:t>
            </a:r>
            <a:br>
              <a:rPr sz="1600"/>
            </a:br>
            <a:r>
              <a:rPr b="1" lang="it-IT" sz="1600" spc="-1" strike="noStrike">
                <a:solidFill>
                  <a:srgbClr val="0033cc"/>
                </a:solidFill>
                <a:latin typeface="Arial"/>
              </a:rPr>
              <a:t>1941  Studenti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4103640" y="3213000"/>
            <a:ext cx="755640" cy="549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tina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o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CasellaDiTesto 18"/>
          <p:cNvSpPr/>
          <p:nvPr/>
        </p:nvSpPr>
        <p:spPr>
          <a:xfrm>
            <a:off x="3743280" y="3824280"/>
            <a:ext cx="2521080" cy="916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alerno  Napoli Agropoli Boscoreale Pomigliano C.Tirren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CasellaDiTesto 19"/>
          <p:cNvSpPr/>
          <p:nvPr/>
        </p:nvSpPr>
        <p:spPr>
          <a:xfrm>
            <a:off x="6523200" y="4221000"/>
            <a:ext cx="1017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otenz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CasellaDiTesto 20"/>
          <p:cNvSpPr/>
          <p:nvPr/>
        </p:nvSpPr>
        <p:spPr>
          <a:xfrm>
            <a:off x="5734080" y="2960640"/>
            <a:ext cx="1523520" cy="368280"/>
          </a:xfrm>
          <a:prstGeom prst="rect">
            <a:avLst/>
          </a:prstGeom>
          <a:solidFill>
            <a:srgbClr val="c2c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mpobas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CasellaDiTesto 21"/>
          <p:cNvSpPr/>
          <p:nvPr/>
        </p:nvSpPr>
        <p:spPr>
          <a:xfrm>
            <a:off x="3714480" y="2023920"/>
            <a:ext cx="929160" cy="642600"/>
          </a:xfrm>
          <a:prstGeom prst="rect">
            <a:avLst/>
          </a:prstGeom>
          <a:solidFill>
            <a:srgbClr val="0d0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Pistoi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Cec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4572000" y="2673360"/>
            <a:ext cx="1081080" cy="549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Perugia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rn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CasellaDiTesto 18"/>
          <p:cNvSpPr/>
          <p:nvPr/>
        </p:nvSpPr>
        <p:spPr>
          <a:xfrm>
            <a:off x="6081480" y="3392640"/>
            <a:ext cx="764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a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CasellaDiTesto 23"/>
          <p:cNvSpPr/>
          <p:nvPr/>
        </p:nvSpPr>
        <p:spPr>
          <a:xfrm>
            <a:off x="1116000" y="5697360"/>
            <a:ext cx="11826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UNITA’ LOCA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2"/>
          <p:cNvSpPr/>
          <p:nvPr/>
        </p:nvSpPr>
        <p:spPr>
          <a:xfrm>
            <a:off x="0" y="652320"/>
            <a:ext cx="455292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36360" y="65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0" y="620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116000" y="441360"/>
            <a:ext cx="75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Principali proposte M&amp;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CasellaDiTesto 7"/>
          <p:cNvSpPr/>
          <p:nvPr/>
        </p:nvSpPr>
        <p:spPr>
          <a:xfrm>
            <a:off x="1224000" y="1268280"/>
            <a:ext cx="76690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Laboratori di sperimentazione didat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Novembre 2012 -marzo 2013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est finale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  5 aprile 20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vegno Esperienze a confronto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 6-8 maggio 20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it-IT" sz="2400" spc="-1" strike="noStrike">
                <a:solidFill>
                  <a:srgbClr val="47ffff"/>
                </a:solidFill>
                <a:latin typeface="Arial"/>
                <a:ea typeface="Arial"/>
              </a:rPr>
              <a:t>Concorso a premi migliore comunic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Finale gara di modellizzazione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   6 maggio 20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7ffff"/>
                </a:solidFill>
                <a:latin typeface="Arial"/>
                <a:ea typeface="Arial"/>
              </a:rPr>
              <a:t>   </a:t>
            </a:r>
            <a:r>
              <a:rPr b="1" lang="it-IT" sz="2400" spc="-1" strike="noStrike">
                <a:solidFill>
                  <a:srgbClr val="47ffff"/>
                </a:solidFill>
                <a:latin typeface="Arial"/>
                <a:ea typeface="Arial"/>
              </a:rPr>
              <a:t>ricchi premi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CasellaDiTesto 8"/>
          <p:cNvSpPr/>
          <p:nvPr/>
        </p:nvSpPr>
        <p:spPr>
          <a:xfrm>
            <a:off x="1187280" y="4437000"/>
            <a:ext cx="7669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Gara di modellizzazione matema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Allenamento dicembre 2012 -marzo 2013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I FASE (locale)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  5 apr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FINALE Perugia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  6 magg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7ffff"/>
                </a:solidFill>
                <a:latin typeface="Arial"/>
                <a:ea typeface="Arial"/>
              </a:rPr>
              <a:t>   </a:t>
            </a:r>
            <a:r>
              <a:rPr b="1" lang="it-IT" sz="2400" spc="-1" strike="noStrike">
                <a:solidFill>
                  <a:srgbClr val="47ffff"/>
                </a:solidFill>
                <a:latin typeface="Arial"/>
                <a:ea typeface="Arial"/>
              </a:rPr>
              <a:t>ricchi premi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2"/>
          <p:cNvSpPr/>
          <p:nvPr/>
        </p:nvSpPr>
        <p:spPr>
          <a:xfrm>
            <a:off x="0" y="652320"/>
            <a:ext cx="455292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36360" y="65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0" y="620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1368360" y="441360"/>
            <a:ext cx="70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tematica&amp;Realt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1368360" y="1376280"/>
            <a:ext cx="7021440" cy="1068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ra di                           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modellizzazion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atema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Picture 8" descr="logo_mr"/>
          <p:cNvPicPr/>
          <p:nvPr/>
        </p:nvPicPr>
        <p:blipFill>
          <a:blip r:embed="rId1"/>
          <a:stretch/>
        </p:blipFill>
        <p:spPr>
          <a:xfrm>
            <a:off x="1332000" y="225360"/>
            <a:ext cx="1358640" cy="99072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9"/>
          <p:cNvSpPr/>
          <p:nvPr/>
        </p:nvSpPr>
        <p:spPr>
          <a:xfrm>
            <a:off x="1368360" y="3141720"/>
            <a:ext cx="73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etizione riconosciuta dal MIUR per la certificazione delle eccellen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AutoShape 2"/>
          <p:cNvSpPr/>
          <p:nvPr/>
        </p:nvSpPr>
        <p:spPr>
          <a:xfrm>
            <a:off x="0" y="652320"/>
            <a:ext cx="455292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6360" y="65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0" y="620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1368360" y="441360"/>
            <a:ext cx="70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tematica&amp;Realt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368360" y="1376280"/>
            <a:ext cx="7021440" cy="1068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ra di                           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modellizzazion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atema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Picture 7" descr="logo_mr"/>
          <p:cNvPicPr/>
          <p:nvPr/>
        </p:nvPicPr>
        <p:blipFill>
          <a:blip r:embed="rId1"/>
          <a:stretch/>
        </p:blipFill>
        <p:spPr>
          <a:xfrm>
            <a:off x="1332000" y="225360"/>
            <a:ext cx="1358640" cy="99072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9"/>
          <p:cNvSpPr/>
          <p:nvPr/>
        </p:nvSpPr>
        <p:spPr>
          <a:xfrm>
            <a:off x="1763640" y="4581360"/>
            <a:ext cx="586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liminatoria (locale) – 5 aprile 20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inale – Perugia, 6 maggio 20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1368360" y="3141720"/>
            <a:ext cx="73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etizione riconosciuta dal MIUR per la selezione delle eccellen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2"/>
          <p:cNvSpPr/>
          <p:nvPr/>
        </p:nvSpPr>
        <p:spPr>
          <a:xfrm>
            <a:off x="0" y="652320"/>
            <a:ext cx="455292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36360" y="65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0" y="620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1368360" y="441360"/>
            <a:ext cx="70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tematica&amp;Realt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1368360" y="1376280"/>
            <a:ext cx="7021440" cy="1068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ra di                           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modellizzazion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atema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Picture 7" descr="logo_mr"/>
          <p:cNvPicPr/>
          <p:nvPr/>
        </p:nvPicPr>
        <p:blipFill>
          <a:blip r:embed="rId1"/>
          <a:stretch/>
        </p:blipFill>
        <p:spPr>
          <a:xfrm>
            <a:off x="1332000" y="225360"/>
            <a:ext cx="1358640" cy="99072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10"/>
          <p:cNvSpPr/>
          <p:nvPr/>
        </p:nvSpPr>
        <p:spPr>
          <a:xfrm>
            <a:off x="1368360" y="3321000"/>
            <a:ext cx="73090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non è una selezione di atleti per le olimpiad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 è una maratona una tant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 è una corsa amatori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 è un’attività volta a stimolare un nuovo 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più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rretto stile di vi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1368360" y="256536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ietti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2"/>
          <p:cNvSpPr/>
          <p:nvPr/>
        </p:nvSpPr>
        <p:spPr>
          <a:xfrm>
            <a:off x="0" y="652320"/>
            <a:ext cx="455292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36360" y="65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0" y="620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1368360" y="441360"/>
            <a:ext cx="70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tematica&amp;Realt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1368360" y="1376280"/>
            <a:ext cx="7021440" cy="1068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ra di                           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modellizzazion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atema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7" descr="logo_mr"/>
          <p:cNvPicPr/>
          <p:nvPr/>
        </p:nvPicPr>
        <p:blipFill>
          <a:blip r:embed="rId1"/>
          <a:stretch/>
        </p:blipFill>
        <p:spPr>
          <a:xfrm>
            <a:off x="1332000" y="225360"/>
            <a:ext cx="1358640" cy="99072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0"/>
          <p:cNvSpPr/>
          <p:nvPr/>
        </p:nvSpPr>
        <p:spPr>
          <a:xfrm>
            <a:off x="1368360" y="3321000"/>
            <a:ext cx="777564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muovere                                     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ercorsi di sperimentazione didattic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volti alla                                       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ormazione e certificazione delle competen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1368360" y="256536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ietti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rimo</cp:lastModifiedBy>
  <dcterms:modified xsi:type="dcterms:W3CDTF">2013-03-12T10:21:34Z</dcterms:modified>
  <cp:revision>728</cp:revision>
  <dc:subject/>
  <dc:title>PowerPoint Presentation</dc:title>
</cp:coreProperties>
</file>